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935F-50E2-41E4-9C3A-8415FB2ED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2CE9-2A05-4650-A953-FAC21D030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1FAB-1972-4810-ACEF-3DF77E044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5A76-36F3-48EA-972D-6B01018FE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F341-1A3B-49FC-BB62-7BA294216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0DB0-311A-4124-AD75-2C23A6BDB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5E52-0D43-49FE-8870-0DEAFE35B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EEFB-4909-4A3C-B202-44C4B8911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5F34-4B70-4B96-A8B0-C0D181C88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CE0C-1575-45F0-B384-134F8EF6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93D5-AED4-44C3-B2F4-3FFFF873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1661-6E59-4030-937B-F0680CFB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6C2AF-E020-482A-B739-1CF98B69C1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43600" cy="43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10:25:42Z</dcterms:created>
  <dc:creator>*</dc:creator>
  <dc:description/>
  <dc:language>en-US</dc:language>
  <cp:lastModifiedBy>*</cp:lastModifiedBy>
  <dcterms:modified xsi:type="dcterms:W3CDTF">2007-12-16T10:26:50Z</dcterms:modified>
  <cp:revision>1</cp:revision>
  <dc:subject/>
  <dc:title>PowerPoint-Präsentation</dc:title>
</cp:coreProperties>
</file>