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BB2-037A-4853-BB67-53D0B09C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0C5-8CD0-4F8E-86DF-5E302727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A4A5-2917-464D-A89C-C649BC72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92B-3273-4D51-B74E-54460DA8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0793-9FE6-4201-BDE3-CE33F25F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A828-35C9-4A37-B278-B0BEF342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D01F-BC2E-4D9C-A605-4210F035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E11-2B4A-414B-848B-2712D7F0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1A87-9A5E-40BE-9EFC-09B47CE1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7E64-5619-43BA-89B5-7845094B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C33-E218-41E0-84C3-E051FAAF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BC6F-F805-4E03-BEEB-F6DF797B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64DC-817B-43F5-BCCF-E9F6D5C73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4680" y="20520"/>
            <a:ext cx="6880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0:25:42Z</dcterms:created>
  <dc:creator>*</dc:creator>
  <dc:description/>
  <dc:language>en-US</dc:language>
  <cp:lastModifiedBy>*</cp:lastModifiedBy>
  <dcterms:modified xsi:type="dcterms:W3CDTF">2007-12-16T10:28:04Z</dcterms:modified>
  <cp:revision>2</cp:revision>
  <dc:subject/>
  <dc:title>PowerPoint-Präsentation</dc:title>
</cp:coreProperties>
</file>