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DD9-8582-4C97-8DA0-397DBCE2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842-0645-4173-8032-856F2AF8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A91-A6C1-4B68-825B-66F56B07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0AA-33DB-455D-96B8-5B3C98C2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77C-F8B1-4EE6-A4DD-FA80206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F27-8FC3-49E1-9880-1368EC87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233-6F0B-4F61-9381-4B1F7A2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CB4-CB48-4549-9D22-51DC4CEF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476-6EA0-4297-A9D3-928BE96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5AC-0E3F-47E1-AE8D-CBE5219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44B-E476-46F5-9345-3172F07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832-9DF9-4E56-A8DB-679E156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C04-394A-4835-9BEC-57084C01D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515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3:00Z</dcterms:created>
  <dc:creator>*</dc:creator>
  <dc:description/>
  <dc:language>en-US</dc:language>
  <cp:lastModifiedBy>*</cp:lastModifiedBy>
  <dcterms:modified xsi:type="dcterms:W3CDTF">2007-12-16T10:23:57Z</dcterms:modified>
  <cp:revision>1</cp:revision>
  <dc:subject/>
  <dc:title>PowerPoint-Präsentation</dc:title>
</cp:coreProperties>
</file>