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DC0-BA26-45E6-9CCD-60D2364F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22B-E577-40DA-BD87-1EF81A1B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267-0687-4728-81A6-8CA84042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6B3-17C9-4C10-A1DC-890D29DD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A77-1B41-437F-B94B-15FE313D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F08-B865-4693-8888-30696E27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151-142F-4441-8AD6-E54F2603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E27-767B-46FA-854B-D3658A0A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D75-1295-4BC0-AC63-FE7C074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9AC-3949-476A-A478-64F28F38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E58-AA5A-4464-AD3F-E7074B9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1FF-ED21-4D0B-AA33-9DA45402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39B-1BE5-4CBA-81F7-66943878C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20520"/>
            <a:ext cx="6880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8:04Z</dcterms:modified>
  <cp:revision>2</cp:revision>
  <dc:subject/>
  <dc:title>PowerPoint-Präsentation</dc:title>
</cp:coreProperties>
</file>