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622-F648-4938-8F5B-A862A196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1CE-4531-4082-A0D0-EF468008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7F0-6C37-48FD-8C9B-7563E7EA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5B4-D6DB-4F4D-971D-79D11665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79F-4FBD-4D57-B6BD-A4349250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5C5-FB6F-4884-9D30-7D0D443C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4CD-6329-43E9-9421-FD617161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FC9-7D9B-40D5-96B5-7DF91AF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D4A-92CA-41CA-8BD7-D65771B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7B8-732B-4894-A7E9-6A365D4D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0274-A5D8-4038-A7A1-DA31402F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335-B01B-4BAE-B466-668E73A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C3C-43F2-4817-B6AB-A92A93C2A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515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3:00Z</dcterms:created>
  <dc:creator>*</dc:creator>
  <dc:description/>
  <dc:language>en-US</dc:language>
  <cp:lastModifiedBy>*</cp:lastModifiedBy>
  <dcterms:modified xsi:type="dcterms:W3CDTF">2007-12-16T10:23:57Z</dcterms:modified>
  <cp:revision>1</cp:revision>
  <dc:subject/>
  <dc:title>PowerPoint-Präsentation</dc:title>
</cp:coreProperties>
</file>