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4FF-4F15-4965-A769-D33868D9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424-BD15-48F9-B0AB-491FB6FA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1FC8-2F2A-4178-96B3-37033C5C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971-1D9B-451C-86D5-603CFAAC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7252-C3B8-41AC-B03E-CD100AE4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800-60FE-4159-A046-2D60F2AE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E95-21AB-48C3-ACAF-C2C43A31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DC8-3BEA-4C5B-B5F4-0372F40B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455-1929-4487-8316-5C851236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4DC-3A96-4D13-B11A-B936D55B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2D2-23D2-4F4E-9B31-2A2BA8DA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477-3682-43AF-A447-9647A190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B888-BE42-4B43-8C11-0D80DE4A1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55:00Z</dcterms:created>
  <dc:creator>*</dc:creator>
  <dc:description/>
  <dc:language>en-US</dc:language>
  <cp:lastModifiedBy>*</cp:lastModifiedBy>
  <dcterms:modified xsi:type="dcterms:W3CDTF">2008-01-13T20:56:30Z</dcterms:modified>
  <cp:revision>1</cp:revision>
  <dc:subject/>
  <dc:title>PowerPoint-Präsentation</dc:title>
</cp:coreProperties>
</file>