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6D15-B67E-4576-A9C4-6BF41B45C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F6E6-37CA-40AB-9BB0-1EDA1F5E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ACCC-82B6-46E8-9D3D-AD2AF5E11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1E62-07D8-4ACF-9E85-DAAC93F1B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0EB0-A239-4E62-ADDD-9BBCB848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CACB-778D-47BF-8EF5-7F53958D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BF90-886F-40FF-A274-CCAC20C8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B434-DF23-45C5-907A-4D715DD1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136C-4CAC-427B-ADAB-B7448F48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A17C-652E-4763-AA41-703428E3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11BE-D6FD-4694-9A13-410E73A7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38CE-1635-4A89-A707-9AD59BD4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D6F2-ED4B-4640-BA78-FC66C7674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68640" y="4716360"/>
            <a:ext cx="345600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14360" y="1227240"/>
            <a:ext cx="6121440" cy="3384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42800" y="266760"/>
            <a:ext cx="60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Ranglisten Kantonalmatch 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Standard- und Schnellfeuerpist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81360" y="1116000"/>
            <a:ext cx="3600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49680" y="142236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Kantonalmatch Standardpist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5654520"/>
            <a:ext cx="6048360" cy="2629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41720" y="5605560"/>
            <a:ext cx="3585960" cy="83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6880" y="58672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Kantonalmatch </a:t>
            </a:r>
            <a:br>
              <a:rPr sz="1800"/>
            </a:b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Schnellfeuerpist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16:23:45Z</dcterms:created>
  <dc:creator>Nydergger Ernst</dc:creator>
  <dc:description/>
  <dc:language>en-US</dc:language>
  <cp:lastModifiedBy>Nydergger Ernst</cp:lastModifiedBy>
  <dcterms:modified xsi:type="dcterms:W3CDTF">2008-10-18T16:31:48Z</dcterms:modified>
  <cp:revision>1</cp:revision>
  <dc:subject/>
  <dc:title>Folie 1</dc:title>
</cp:coreProperties>
</file>