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F7E6-0919-42C0-A83E-5153E497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D776-FC84-41CF-AABC-F699359A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19A9-68E3-49B3-8E25-7DC897171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EE1A-4FEE-4A5F-8957-679C099C6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7D33-1B33-4CB5-89B2-FA106FC6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022C-F5C0-4927-9DB8-8F1BE41C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163C-1B18-40D6-816F-36196504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BE54-91FF-4DBA-8D2F-6F38B33E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A383-7E7F-4766-BC10-9BCC455C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DCF2-F7C5-440F-A2C5-E3FF0CB0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740C-7DBF-4CF8-AB0C-66AFE7B0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5EF2-B8E2-47D7-9834-F475554A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F4CC-0994-422F-B209-55B2A0680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8360" y="0"/>
            <a:ext cx="64612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21:02:56Z</dcterms:created>
  <dc:creator>*</dc:creator>
  <dc:description/>
  <dc:language>en-US</dc:language>
  <cp:lastModifiedBy>*</cp:lastModifiedBy>
  <dcterms:modified xsi:type="dcterms:W3CDTF">2008-01-13T21:03:10Z</dcterms:modified>
  <cp:revision>1</cp:revision>
  <dc:subject/>
  <dc:title>PowerPoint-Präsentation</dc:title>
</cp:coreProperties>
</file>