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D08-6F96-449E-A9C4-67660500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185-4D34-4C8F-BBF5-15F2BBC6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67D-E5C2-4817-93F4-E042BCE1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989-8F23-4F1E-A288-6772642E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3CC-4819-4658-9AED-DB28F1A0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0F8-81E4-4BD7-8D98-AC10F3A0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B53-FC04-45C6-A489-636E9B6F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887-907A-43E4-B0C0-C86A8084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FFF-98C5-45E0-9F98-C3DCA551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870-15FD-4732-BB2E-09AFCB5A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9B8-51F1-4329-96F9-8FF0C1FD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75E-E8A7-48D3-A414-3575FEE5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DED8-F3F8-4A25-9C36-EFEB25AC4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5:00Z</dcterms:created>
  <dc:creator>*</dc:creator>
  <dc:description/>
  <dc:language>en-US</dc:language>
  <cp:lastModifiedBy>*</cp:lastModifiedBy>
  <dcterms:modified xsi:type="dcterms:W3CDTF">2008-01-13T20:56:30Z</dcterms:modified>
  <cp:revision>1</cp:revision>
  <dc:subject/>
  <dc:title>PowerPoint-Präsentation</dc:title>
</cp:coreProperties>
</file>