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CC2-A70F-40E7-8AED-206171CC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EE1E-CB8C-464D-B267-68F49637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C60-9A03-4FBC-9EE2-4BE4C5BF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F4C2-8320-4CF0-8004-665987D2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24F-384F-4346-B04F-2496206E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608-8462-4259-8569-4C164137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C42-CB5C-4C8D-BB7E-E34E906F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A40-30F4-4544-ADAF-0B061B8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39A-1980-491B-948C-7E3CD65C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F948-0977-41ED-91AE-9A8080D5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E19-B04C-441E-8CA3-E37AED41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83C-C7A0-4CE8-8EFB-81F76E39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0595-53C2-4E62-82CF-45B9B2234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4716360"/>
            <a:ext cx="34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360" y="1227240"/>
            <a:ext cx="612144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800" y="2667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nglisten Kantonalmatch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andard- und Schnellfeuerpist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81360" y="111600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9680" y="1422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Standard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654520"/>
            <a:ext cx="6048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41720" y="5605560"/>
            <a:ext cx="358596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5867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chnellfeuer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3:45Z</dcterms:created>
  <dc:creator>Nydergger Ernst</dc:creator>
  <dc:description/>
  <dc:language>en-US</dc:language>
  <cp:lastModifiedBy>Nydergger Ernst</cp:lastModifiedBy>
  <dcterms:modified xsi:type="dcterms:W3CDTF">2008-10-18T16:31:48Z</dcterms:modified>
  <cp:revision>1</cp:revision>
  <dc:subject/>
  <dc:title>Folie 1</dc:title>
</cp:coreProperties>
</file>